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A4EB-2F0D-4D15-BD1C-CA43A8475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ing resource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an agent is too “fat” to migrate onto a particular no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co-proc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ster scenario: coordinating things all over the country or world.  Involves many different organiz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ve nature of service-oriented paradigm is important: Scripts just declare what they want, and the system finds the services that fulfill these nee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 Rock does not support dynamic application deploym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Web and IrisNet do not focus on computing within SensorNets or application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et does not have service provisioning for dynamic service binding. Tenet scripts assume that the instructions they execute exist.  The current implementation of Tenet assumes a homogeneous platform -- all instructions provided are kn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te version of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1DE-052D-4031-A12F-10273F05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94B-3F22-47CE-B7D2-8536DC48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1B1-0B09-4AB9-BF22-5B0A43C4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5BC0-BD8F-4E0E-9B4A-C33AC90A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DEA6-C6B2-4780-9617-648E6C62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E100-CB68-4CF6-A142-FDAE062D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7E3-E0BA-4415-BCD8-91B1BC17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850-13CD-454C-ACCE-D36F3B43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3CF-2774-4E89-95C8-47C6B6C7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7B3-611A-4934-A36C-F7442F7E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D0B4-C1C9-4AC9-AF54-7C28B536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5DA-9FDF-4C8F-B575-44A90FCF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D089-686F-4B1D-83E9-D1C506487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ards a Flexible Global Sensing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3505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en-Liang Fok, Gruia-Catalin Roman, and Chenyang 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5638680"/>
            <a:ext cx="551196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7576-0580-4843-B89D-EAE1A2F621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Resourc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service for concurren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resource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ery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B89-3B6D-4C37-AA69-B51E03FA08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Run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 &amp; intra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pts must react to changes in their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range of event types, sources, priorities, and usage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resources prevent hosting every service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service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/local persistent/transient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9AB4-C9F9-4B67-8880-85DB3FE0D5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: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Descriptio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pt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23760" y="4038480"/>
            <a:ext cx="7748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requi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reDete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 serv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rv; // a handle to the servic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 void main(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    bind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GER | PERSISTENT, THREE_HOP, serv, FireDe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nErr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(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     while (true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         migrate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RandomNeighbor(), STRO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le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Fi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ke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nErr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(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     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6080" y="2184480"/>
            <a:ext cx="225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ype = sens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 = temper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units = Celsiu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rror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±0.0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BF5-6127-4265-9987-8BDCFD71CB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: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029200" cy="426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Agilla’s VM to support mobile scripts &amp; service in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a service provision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ed on Tmote Sky test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B2C-CF19-4345-A700-9135E9B99F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d SensorNets are evolving into a G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software architecture is required for building flexible GSI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proposed three-tiered service-oriented computing archite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e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platform-independent mobile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level platform-depend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hallenges r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5F41-ED62-4EC4-91AD-D4D085C65D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Nets are evol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oftware architecture does not easily facil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ing global sensing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50800" y="2378160"/>
            <a:ext cx="1828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-scal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ogeneo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-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2378160"/>
            <a:ext cx="1828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-scal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erogeneo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291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8360" y="344484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sting Sensor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53400" y="3444840"/>
            <a:ext cx="18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global sens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 (GS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606760"/>
            <a:ext cx="13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olving i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D5B-CDDC-47B7-99B8-37658FEC65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Sensing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llection of sensors, microservers, base stations, and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and continuously ev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by many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258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CDDA-F05A-4F18-997D-6BBAEB178A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Examp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upply chain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s attached to products, cargo containers, loading docks, ship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ifferent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disaster scenario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heterogeneous and dynamic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many organizations and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program GSI to help victims and coordinate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F0B8-AB53-4E59-9DBF-2F613679C2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Proposed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new software architecture based on service-oriented computing &amp; mobile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b services: global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ctive platform-independent mobile scripts: dynamic application deployment in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icient platform-dependent services: flexible service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ve service-oriented programming paradigm enables seamless integ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 application development on evolving &amp; heterogeneou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A3B1-307D-462A-AD16-6E841669AD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 Rock Corporation [Woo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SensorNet nodes to the external world as a web service using existing standards (WS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upport mobile scripts (dynamic deployment of apps) for programming inside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Web [Santanche et al, IPSN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b portal for integrating &amp; viewing data collected from a Senso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Net [Gibbons et al, IEEE Perv. Comp.’0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tributed database for WS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et [Gnawali et al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iered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Net has a fixed and uniform instructio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CA9-DDE5-4034-B2E6-3DE54F90F4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rglass 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neidman et al.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rvard TR’0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frastructure for connecting SensorNets with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s on data routing and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VM [Levis et al, NSDI’0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VM with a custom instructio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provide dynamic service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S + DVM [Balani et al, EmSoft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M with dynamically loadable binar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binding between script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ete [Yu et al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Application support within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quality of service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BC9-932E-4AAA-A7FD-F3F5A3F136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ftware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 engine (VM for mobile scri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ment &amp; execution of mobile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or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managemen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DA9-9B9A-4E7F-8DC0-E92CB71195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cefully handle error conditions like when a script invokes a service that is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escriptio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ct, ext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o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ge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boundary between scrip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EA0-13CD-4A9F-AB0E-DE3F419082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2:14:55Z</dcterms:created>
  <dc:creator>Office 2004 Test Drive User</dc:creator>
  <dc:description/>
  <dc:language>en-US</dc:language>
  <cp:lastModifiedBy>Office 2004 Test Drive User</cp:lastModifiedBy>
  <dcterms:modified xsi:type="dcterms:W3CDTF">2007-04-24T08:28:09Z</dcterms:modified>
  <cp:revision>32</cp:revision>
  <dc:subject/>
  <dc:title>Towards a Flexible Global Sensing Infrastructure</dc:title>
</cp:coreProperties>
</file>